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ove%20Spell.wav" ContentType="audio/x-wav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5603-E686-4E5B-9AAE-5C4066B91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3FCA-F4DA-4A5B-9723-69DE7DB2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929-6D68-492C-ACA1-A622349A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9C97-6FF8-4ECC-8405-4E813A0F6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4134-A2BD-4E58-91BE-CCC73C5F5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DF95-921F-4E0C-8853-EC00177D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A3EC-4DD0-49D9-BEC9-C1843F4E5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799F2-721F-498B-9CEF-9BD81A6D0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821E-9AE1-45DF-B9F1-7362405C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BE89-49E2-4330-B6F3-215F5F12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458-5F89-4819-81FF-F71BE9A5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8FAF-75CE-4E88-94DA-479649DC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9977-361A-4170-8EA4-8703E993B44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Love%20Spell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71640" y="3048120"/>
            <a:ext cx="7129440" cy="77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gradFill rotWithShape="0">
                  <a:gsLst>
                    <a:gs pos="0">
                      <a:srgbClr val="7f7f7f"/>
                    </a:gs>
                    <a:gs pos="100000">
                      <a:srgbClr val="ff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aramond"/>
              </a:rPr>
              <a:t>HUMILDAD...</a:t>
            </a:r>
            <a:endParaRPr b="1" lang="en-US" sz="5400" spc="1" strike="noStrike">
              <a:ln w="0">
                <a:noFill/>
              </a:ln>
              <a:gradFill rotWithShape="0">
                <a:gsLst>
                  <a:gs pos="0">
                    <a:srgbClr val="7f7f7f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aramond"/>
              <a:ea typeface="Garamond"/>
            </a:endParaRPr>
          </a:p>
        </p:txBody>
      </p:sp>
    </p:spTree>
  </p:cSld>
  <p:transition spd="slow">
    <p:wedge/>
    <p:sndAc>
      <p:stSnd>
        <p:snd r:embed="rId1" name="Love%20Spe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7429680" cy="5632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105520" y="0"/>
            <a:ext cx="3733560" cy="84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Caminaba con mi padre, </a:t>
            </a: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cuando él se detuvo en una curva </a:t>
            </a: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y después de un pequeño silencio me preguntó: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- Además del cantar de los pájaros, </a:t>
            </a: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 ¿escuchas alguna cosa más?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Agudicé mis oídos y algunos segundos después </a:t>
            </a: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le respondí: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-Estoy escuchando el ruido de una carreta..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7429680" cy="56325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029200" y="0"/>
            <a:ext cx="3962520" cy="74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-Eso es, dijo mi padre. Es una carreta vacía.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Pregunté a mi padre: 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¿Cómo sabes que es una carreta vacía si aún no la vemos? </a:t>
            </a:r>
            <a:br>
              <a:rPr sz="2400"/>
            </a:b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Entonces mi padre respondió:</a:t>
            </a: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- Es muy fácil saber cuándo una carreta está vacía, por causa del ruido. </a:t>
            </a: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Cuánto más vacía la carreta, mayor es el ruido que hace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7429680" cy="56325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495680" y="457200"/>
            <a:ext cx="4648320" cy="78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Me convertí en adulto y hasta hoy, cuando veo a una persona hablando demasiado, interrumpiendo la conversación de todos, siendo inoportuna, </a:t>
            </a: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presumiendo de lo que tiene, sintiéndose prepotente y haciendo de menos a la gente, tengo la impresión de oír la voz de mi padre diciendo: "</a:t>
            </a:r>
            <a:r>
              <a:rPr b="1" i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Cuanto más vacía la carreta, mayor es el ruido que hace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3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3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3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7429680" cy="5632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876920" y="515880"/>
            <a:ext cx="4267080" cy="73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La humildad consiste en callar nuestras virtudes y permitirle a los demás descubrirlas.</a:t>
            </a: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Y recuerden que existen personas tan pobres </a:t>
            </a: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que lo único que tienen es dinero. </a:t>
            </a:r>
            <a:br>
              <a:rPr sz="2400"/>
            </a:b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"Nadie está más vacío, que aquel que esta lleno del Yo mismo. "Seamos lluvia serena y mansa</a:t>
            </a:r>
            <a:r>
              <a:rPr b="0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 </a:t>
            </a:r>
            <a:r>
              <a:rPr b="1" lang="es-MX" sz="2400" spc="-1" strike="noStrike">
                <a:solidFill>
                  <a:srgbClr val="ffffff"/>
                </a:solidFill>
                <a:latin typeface="Garamond"/>
                <a:ea typeface="Times New Roman"/>
              </a:rPr>
              <a:t>que llega profundamente a las raíces, en silencio: nutri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68360" y="1844640"/>
            <a:ext cx="8351640" cy="48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 todo cariño para mis amigos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7T19:14:19Z</dcterms:created>
  <dc:creator>maguilar</dc:creator>
  <dc:description/>
  <dc:language>en-US</dc:language>
  <cp:lastModifiedBy>jaime</cp:lastModifiedBy>
  <dcterms:modified xsi:type="dcterms:W3CDTF">2009-02-07T02:04:29Z</dcterms:modified>
  <cp:revision>1</cp:revision>
  <dc:subject/>
  <dc:title>Slide 1</dc:title>
</cp:coreProperties>
</file>